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F20-18FE-4271-B112-F70793E5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6D1-9433-45AA-B509-2FDD4D53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5A085-FDCA-4AD9-9EA0-8AC01BB1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2766D-CB47-4636-945B-D9DD00D3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5B8D4-0973-4708-939E-D8A9E68F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E7883-96F1-4153-8F4B-20481B9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85705-532F-42C0-AE48-9C2865B2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26BBE-DF95-4F13-B87C-EF7B72A0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ABFDF-7C63-4146-9356-1F112BB2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7F6B6-C743-4A8A-8F45-36C6BEFC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90120-C4D5-4A9B-A361-683794F4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819EB-6E00-4AD6-A24B-7DAE97F2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B94-1E72-40AE-8DBD-F4D7A422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D576E-297E-4670-AC7F-8FB97E49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E13A0-3639-4E53-99A7-0EDC6499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D3FE9-1BF8-4238-8517-28D8FBEA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BDCB2-F322-4C18-941F-04ADDCD1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0350E-4CC2-4560-8239-A6351FF3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72BCC-AF94-487C-B9E8-24A6565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82A16-2A03-44F9-8E04-3881F076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B533F-3840-4C8E-BD26-4B28344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19BEB-665C-4776-B533-42D00CAF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CB3E9-F872-44E4-B57F-283D05D3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633-60C2-424C-8339-396143DF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3241E-D91F-4462-A9F4-0415EA59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46263-B416-4450-8A4F-9DEDFC91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872E2-19A9-46A6-9AB8-A426F92A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65A78-1722-4C04-84C7-544CD5FE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A406C-AD10-4745-AAF1-1B06CCCD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88161-268C-4731-8297-6AB1CF52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50CA5-F353-4A56-9A60-6C5F7C34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DD3EF-732E-495B-BA07-A13CAA0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29CAB-C609-4A16-A34D-1BB623B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F7D5F-0A2D-4372-A0BD-BF67F7E8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D77D-BD89-4545-8F8E-395F8ECD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1C1DC-9635-4245-9102-D3D96095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212C6-4CDA-4A79-B1F8-64E0713B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B7DE4-AD16-47C1-AE45-3C637CCB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11D2B-DBC1-470E-95AA-EF32F693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36C4C-4231-4CB5-A622-85F9D9D2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1DA94-89C5-46FE-AF95-17DB22F6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A9929-5928-42E8-BC0D-D087E476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690B1-1F7D-4BA7-9830-0791B1D1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48424-F94D-4B33-8F03-85CC8BD3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F6478-B929-4483-AD55-80F86ABD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BA31-39E3-4390-AFB3-7859A2B7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5D706-1408-46E5-A3B5-83707DCC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96E14-1EC3-43F7-93A0-07C53406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54043-F593-4EC3-A6C7-10C2613D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20C72-7F3E-430D-ADD3-65B1E46B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B0863-757A-473D-BA6C-7503EEFC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52F21-8B5C-4739-8999-58E2F458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AD179-C8D1-4916-9FB8-0AB67EFF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EAC30-752E-422E-B9E3-7CEA0993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9D107-483E-4B6B-91FA-DF77240C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3DADE-3316-4B3A-889F-B415364B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38C5-6CA0-4784-9D56-835CD1A4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5BDEC-AAFF-462A-9C28-564DCDD7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AB7DC-76FC-471D-A5C8-9E3B8A7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F3509-2066-4D6E-810D-4B9BAB8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676E0-D435-4AB3-98ED-0D1C559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1A5E1-BC15-4E33-99BD-7F7C092D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95F84-BB6E-4821-AA68-2882B272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2AA0B-260A-43B2-B292-B7821C15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6BDE5-2C9F-4175-A390-792D9944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BB6A6-AE22-4975-B13D-431718CE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A7369-0C9D-4440-93D1-FA2DFD4F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224D-8059-48AE-96C5-761F5178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F70CF-13CE-4490-843A-ECC42337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BB41C-AF00-47F9-B061-4739E295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A9DCD-A00F-475F-A22B-4A583555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D73BF-B128-44BB-A395-808AC6CB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ED828-2E84-4A88-8455-117C1403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67EC2-7547-4F74-A3EB-55D040A5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80936-0F8D-48AA-808C-0B13E85B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D1323-F147-4476-A6DE-89316E86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9A76D-5414-431E-A3E9-531BD21C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6B1D8-C483-4F70-84D7-7B5DDC17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F34F-ECD6-4132-A7E4-FAC2544B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66DEA-8DF4-47AB-B86F-4726D0E6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CCED1-3B5B-461E-8474-F4272803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6AF03-B356-42D2-9EA5-8FE3EA48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39070-11A1-4D8A-9066-ACBEF180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60988-FD26-47D5-8EDB-F53E1916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93A92-5BD6-4D24-A51A-AA27A703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4C6B8-CEC0-4D9F-B950-D43C053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BD2D1-8D82-401A-9796-62698AF8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E1ACD-2ABE-4001-83CF-8DB48CCC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58481-4384-40C7-B7E5-DB60FCF4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D112-7625-4232-AC62-9CCF59F8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E13F4-6892-451E-B33F-958FDC82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12744-5CBE-4551-85F4-EB514BAB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D31E2-B85F-40B0-861F-12E1F9CB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1DCA9C-117D-483B-BDFD-91CA6BDC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9DCAC-4C85-4C79-823E-38DCEDB7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3FDE2-4BA4-44B3-A2DE-1845C4CA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9014C-2BDE-4C62-96D6-ADA981DB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381ED-E4DD-4DC1-A31E-9C597253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757D6-F8AA-43A8-AB07-5A1E44F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DC649-C583-4B14-9453-0397964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45D8-1DA4-4196-A631-D0459339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07126-4DAB-4398-91E7-6CF752F1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0C916F-F449-4CC0-B9D3-8C7CE45D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33753-30BE-480C-950F-7597A990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D0E0F-E85E-48A4-B876-A4BEA438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CD620-8DAF-4819-B685-9EEF6D5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9C56A3-B485-4BDB-8AD5-E9E3E297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FB908-245C-4049-8417-728D1B5D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5AD2B-C777-4A44-A1B9-B1F9A32D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A298D-C61A-40E1-8105-749210F8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F1614-3C17-4143-8BAB-24DDDE2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8D7-AB61-431C-8273-A710DCB5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A7AF-5092-4A62-AB0F-E9D594D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40E33-3CE9-4470-B903-956FF55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851C2-582A-4552-B4D3-0A5D1ECA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5CD41-4E44-47D0-9491-E134A22C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38CB8-DC4D-4574-A273-AC709B64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42BA3-DDB0-45D6-99BF-E086928B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FF312-FE48-49BB-8866-6DE1C158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65157-04B4-42D4-8AC0-D26AF920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99B7CB-80A6-4182-9256-CE73B0B5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7C88D-C7A9-43E8-BD1F-0F3EE953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E04D2-9CE7-4004-AD8D-FED3209A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5C1B-13B9-4316-B501-F07B4D1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7724A-B47C-45EA-A483-4A0A013C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95654-8F53-47AC-93D9-64EF2919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25783-63B8-4743-B978-8EBB08E2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DB765-A485-4A0A-9C83-601B5C0C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1C1F8-DB0F-4A41-AB53-9346647C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CED39-0328-4593-A5B0-4B388CDD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11E81-E872-4513-85E1-2A438C02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A98F0-4B4E-48E8-8A0D-E4C0B55F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651B9-C811-466D-B6BE-CEB59F63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AF956-D946-4EA6-8EA7-CCFB2F57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71B2-2D50-4397-A92F-74B1EBCA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D437E-8C4C-49D1-9BB5-8B54C34E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CF97D-15BC-40D2-9053-723E949D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90A082-5529-4D73-857E-D89A695B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7516D-5242-464D-958D-CE8FF49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86789-DEE0-4A7B-9F9F-6C9007D3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1A12A-C8CA-48C5-BB05-5F7B9A93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1E0756-76A4-4952-8B92-979DF3ED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0FF4A-0444-4CE1-8202-7F5D0115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F3C57-E14F-46E0-86D6-E6B669BC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E981E3-9366-4B9C-BE86-F3542232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3360-90BB-4F46-8643-2F14F119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B6B06-914B-4DB5-8F2B-54652638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E4966-341B-4A0B-A2D1-8BFABE27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D69BC-93D9-4CF3-969F-AB3F4DC6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848CC-EB7A-4B50-819E-3EFF4889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D1BDF-2084-4721-9C08-36C5C166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A8AE9-8686-4575-84EA-C047C17D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2D4E0-FCC8-4884-A23B-633DCAFD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798B1-B9AD-433A-9766-DFA96E5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B786A1-6C06-4746-A548-7F87F567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72F3F-E352-4267-8E6B-4A5E3B44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3740-6323-428E-B7E3-E589B418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6DBB30-4DD9-4CF2-B1DB-B1125403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BC0CEF-2A08-4D67-9FAD-4E31CE30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1393E-DF7E-4CEA-8D6F-2D90E554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15D2C-9789-4AE2-920F-466AF6C7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75B25C-DFD5-45E9-A96D-0E2F4116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41132-7062-46DF-BEAB-2ED78688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BA903-E37E-41E6-8155-DC487B6D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908C55-DBBD-4A7E-9AB7-BC94C23A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EEC44-93D5-4D2C-A7C2-1654B1F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5389ED-14CB-48BA-AC7A-A316577A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E490-8B03-4EFD-B8EA-52120FB3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0D597-C953-41A1-93E0-5FA76188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4CB77-976C-47F2-B62F-8816484D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D71F9-4CC9-4DBC-B6EA-297680EB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3B86-4969-4245-92E2-BF7AF053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8852-1127-4D47-8C7B-C64E0617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1BEF-E382-4AB1-99A9-62BD07F1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4A75-B658-4955-BAEA-50B3CD87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78D-626A-433F-91D6-EE61D45B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A4EA-136B-488F-A66D-E8E03739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021F9-FAA6-49D5-B47B-2C1A7651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E8F6-8B3F-4751-878D-5210236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8F087-3870-4947-BA3C-EEEA1C49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BE0A-C959-4F85-9D30-42CB5925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58E69-60B7-4EE3-BAAD-4EE0C39E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F021-C59D-4A36-9D79-623A511A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2CFA-594E-4E90-9ACE-DD0DBD88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D47F-1762-4501-9340-DD0408F5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C7075-E473-43F2-B27B-39EB50E1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FEA-6A47-4E60-ADB6-CBECEA2B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6854-3285-4956-BEFB-F9F8662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13D0-F401-4FD8-8BA1-7E0191D8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2C23-CFB9-4AB0-A4C6-B995662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F2173-B0B5-4C72-953E-68B990D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2E74-1C74-45DE-A9A4-190DC01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6920-4064-44F8-BA70-E02C89B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4CA4-5E4B-4FA3-9155-F1EA0667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17E80-E330-41CC-9947-C115CD74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0E8E-36E0-4863-B78D-08542E5E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657D-8FE3-4B2C-96D1-FE23B017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74D-DF69-4EB4-B163-A5A5199A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15E9-0F02-4E88-89BA-D0E99C2C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7366-434C-4613-9722-C952A4EE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9E1C-2427-400E-809C-89AF4BE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6E35-143D-4DDD-BA64-EB06B1F1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33035-12E1-48B6-9362-897CFDB9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73C8-DD34-4210-ACDE-B93F215B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0D80D-0A63-49DD-A199-9E971367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8231-F94D-468D-A23A-3697608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60F1E-50C0-45D9-B2EE-EDC85F12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B79F-61B2-4217-9937-A043996C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457-83BC-4D04-BD88-466F021B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4630A-9B00-44B7-9620-28611065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781C-4025-4256-A5E3-F07F7382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01A6C-2F21-4492-8AB8-0EF03A4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9629-DFF6-4749-9FB7-ED55E23F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29308-2D91-4A41-B85D-36BA22DF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C2984-B2F0-4F1C-8D96-2B0BAED9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8D55D-6DD9-4FC3-BCEB-E8B2E7AB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F43E-E998-4264-B812-D18E4488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7645-BE8F-475A-9CE1-D408A10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17F7-7EFE-43A8-A98A-75C8381F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99B-F87E-4774-81CE-66AD5233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6CD83-74A2-4A60-989E-68AD65AA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EC1F-FED9-4905-B4C3-3278080A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247B-CA97-4E4C-AD3D-756A5414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2743E-E926-41E1-8DCB-9A11D80B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4DF97-AE8C-4118-A165-C3BFF1AC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C8373-3488-4B90-8995-E8B603E6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C6A5-4C44-43FF-9947-65B97E09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D3A49-376C-4F06-AFDD-1D1520E9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ACBFA-5F18-4DC1-9F9C-1DDD6177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A72F4-7833-45DA-A299-A2B11936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CA8-942B-46EC-A84A-B1BA883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E993-19F6-44CF-A605-156AC749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5FB2-3D64-4D78-B59E-B3DFE60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0ECC0-1A8F-4A18-A15A-826FDCD5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E5CE2-1D3B-4801-8674-BE9E7814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6EE08-967D-47BF-B66F-5852BB45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7F6A-48FF-48B5-82F7-8E428662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429A4-8149-4C36-8751-35B9F8D9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8EF4F-8ADF-4607-A246-556D306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A0AD5-A9E4-4854-B7EC-E25FABE8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AC7BF-4E05-4E01-BDC2-2FEF5FFF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F0C-1780-4B5E-ACD6-CD35672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0AFBA-1E47-4790-921B-F6A7149A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9442F-A561-4BB4-A85B-AF684D3C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7F89-A232-419F-9074-B21EB005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85301-AF6D-4355-856D-51F1DA48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13809-E08F-4A48-AE84-03C67D6D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64827-4F99-4022-807A-1D57B9C4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7B26E-E9B1-4396-9B37-430E69EB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DBADD-3875-4205-B526-33698FEB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C59C6-6713-4ABE-94DF-BD560B5A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E3A6B-EF48-44CA-B935-7F3FA5AD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6C1B-91D6-4704-A18B-6A5029D887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128F-0948-4F18-B822-F832FD59E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FC28-840E-4E18-9F86-2A1EAFD9B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244F-DD5F-4948-AD4F-80666CE9E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83E9-27B7-4E42-9F49-F3414BDC0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7F3D-D86D-431C-A904-4FDCAC1DC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2623-115C-4A6E-9C4B-18B96B5F95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BF27-E0BD-4A5E-9CBF-9C0EFBCFCC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62F6-6BEF-445B-9D0A-CE93CB2354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A83A-E154-4EE2-8191-106137C0B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B5B8-597B-4FD6-A181-0132444A73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EDA2-0823-4331-BF33-F52F5E506B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373B-0B03-4685-939E-0B4ABAB9F2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15CA-6176-4B94-86E3-46F73CBB07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DAEA-A69D-490D-96BD-1C5696F5EA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9A30-3D94-429B-85E0-8013D22EBA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974-0D5A-470E-A7DB-DCAAB0266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2EC3-2B7F-43CE-B6D5-782696E78A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E9EB-E74A-4798-B231-C544DCD109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840C-E96D-416F-B25D-A615C5643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C3B1-1894-456C-8C58-EA862662EB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7389-0D62-4BBE-9660-FDDDB5C47F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20BF-AD70-44E2-9431-8C3FD241D9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E0AC-5C4C-4D97-8172-F10CBBF93D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62F3-1700-41E5-A7EB-BFBF36231C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67AF-73AB-4461-9207-7450C6567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6D95-3774-4B1F-AC76-1B9791531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6720-311F-46A7-BBC0-F0EE9D21CF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9F0B-AA5A-482F-8518-322D6F4C98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DA21-C6A6-423C-849A-AC2C119AB8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ECEF-BC00-4B7A-B7D4-4DAB428748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7C6-26FF-4454-9637-A56B221961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F762-49A3-4163-ADA3-1E9B5503C2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0D83-1A9A-4A5B-8127-1FF6ABAFF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02CC-2BAA-461B-AC70-C7C120E801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6DAD-3960-4A75-9494-CD7D0E8AB0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5261-665A-45B3-B049-1BCC48AC5E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7EF1-327D-4C19-A335-9DDCC778D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790F-1E2E-4DB5-9123-91019963FF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1272-D9AD-461E-9654-741F64E1A0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504800" y="2886120"/>
            <a:ext cx="61344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9633" descr=""/>
          <p:cNvPicPr/>
          <p:nvPr/>
        </p:nvPicPr>
        <p:blipFill>
          <a:blip r:embed="rId1"/>
          <a:stretch/>
        </p:blipFill>
        <p:spPr>
          <a:xfrm>
            <a:off x="363600" y="66600"/>
            <a:ext cx="86011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8609" descr=""/>
          <p:cNvPicPr/>
          <p:nvPr/>
        </p:nvPicPr>
        <p:blipFill>
          <a:blip r:embed="rId1"/>
          <a:stretch/>
        </p:blipFill>
        <p:spPr>
          <a:xfrm>
            <a:off x="366840" y="888840"/>
            <a:ext cx="8381880" cy="52768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5292720" y="870120"/>
            <a:ext cx="1079640" cy="436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6588000" y="3251160"/>
            <a:ext cx="2016360" cy="4366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971640" y="3860640"/>
            <a:ext cx="3960720" cy="4366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5940360" y="5602320"/>
            <a:ext cx="107964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7585" descr=""/>
          <p:cNvPicPr/>
          <p:nvPr/>
        </p:nvPicPr>
        <p:blipFill>
          <a:blip r:embed="rId1"/>
          <a:stretch/>
        </p:blipFill>
        <p:spPr>
          <a:xfrm>
            <a:off x="428760" y="1938240"/>
            <a:ext cx="8286480" cy="29815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1332000" y="2530440"/>
            <a:ext cx="1008000" cy="4366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2627280" y="4340160"/>
            <a:ext cx="54007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6561" descr=""/>
          <p:cNvPicPr/>
          <p:nvPr/>
        </p:nvPicPr>
        <p:blipFill>
          <a:blip r:embed="rId1"/>
          <a:stretch/>
        </p:blipFill>
        <p:spPr>
          <a:xfrm>
            <a:off x="237960" y="2071800"/>
            <a:ext cx="86680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65537" descr=""/>
          <p:cNvPicPr/>
          <p:nvPr/>
        </p:nvPicPr>
        <p:blipFill>
          <a:blip r:embed="rId1"/>
          <a:stretch/>
        </p:blipFill>
        <p:spPr>
          <a:xfrm>
            <a:off x="971640" y="1025640"/>
            <a:ext cx="6696000" cy="49244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65538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2769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4513" descr=""/>
          <p:cNvPicPr/>
          <p:nvPr/>
        </p:nvPicPr>
        <p:blipFill>
          <a:blip r:embed="rId1"/>
          <a:stretch/>
        </p:blipFill>
        <p:spPr>
          <a:xfrm>
            <a:off x="485640" y="2319480"/>
            <a:ext cx="8172720" cy="2219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360036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63489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8382240" cy="3581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3419640" y="2865600"/>
            <a:ext cx="1081080" cy="4363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3564000" y="4653000"/>
            <a:ext cx="7207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62465" descr=""/>
          <p:cNvPicPr/>
          <p:nvPr/>
        </p:nvPicPr>
        <p:blipFill>
          <a:blip r:embed="rId1"/>
          <a:stretch/>
        </p:blipFill>
        <p:spPr>
          <a:xfrm>
            <a:off x="442800" y="1876320"/>
            <a:ext cx="8258400" cy="31053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908000" y="3645000"/>
            <a:ext cx="6840720" cy="4363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10080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04840" y="1409760"/>
            <a:ext cx="8734320" cy="40100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547640" y="2579760"/>
            <a:ext cx="863640" cy="6048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4140360" y="3178080"/>
            <a:ext cx="1079280" cy="3272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6588000" y="3192480"/>
            <a:ext cx="1513080" cy="3268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5389560" y="4292640"/>
            <a:ext cx="1270080" cy="326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6227640" y="5013360"/>
            <a:ext cx="72072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219240" y="847800"/>
            <a:ext cx="8705520" cy="5676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4427640" y="5759280"/>
            <a:ext cx="720720" cy="3272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2195640" y="6130800"/>
            <a:ext cx="431640" cy="32724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59413" descr=""/>
          <p:cNvPicPr/>
          <p:nvPr/>
        </p:nvPicPr>
        <p:blipFill>
          <a:blip r:embed="rId4"/>
          <a:stretch/>
        </p:blipFill>
        <p:spPr>
          <a:xfrm>
            <a:off x="960480" y="2408400"/>
            <a:ext cx="46195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73" descr=""/>
          <p:cNvPicPr/>
          <p:nvPr/>
        </p:nvPicPr>
        <p:blipFill>
          <a:blip r:embed="rId1"/>
          <a:stretch/>
        </p:blipFill>
        <p:spPr>
          <a:xfrm>
            <a:off x="318960" y="1595520"/>
            <a:ext cx="8506080" cy="3666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948360" y="1557360"/>
            <a:ext cx="432000" cy="326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187280" y="1941480"/>
            <a:ext cx="432000" cy="326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7380360" y="2716200"/>
            <a:ext cx="1079280" cy="326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1535040" y="3801960"/>
            <a:ext cx="432000" cy="3272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3276720" y="4137120"/>
            <a:ext cx="43164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7352" descr=""/>
          <p:cNvPicPr/>
          <p:nvPr/>
        </p:nvPicPr>
        <p:blipFill>
          <a:blip r:embed="rId1"/>
          <a:stretch/>
        </p:blipFill>
        <p:spPr>
          <a:xfrm>
            <a:off x="209520" y="1700280"/>
            <a:ext cx="8724960" cy="34574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3157560" y="3933720"/>
            <a:ext cx="431640" cy="327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547640" y="4678200"/>
            <a:ext cx="792360" cy="3272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3708360" y="4691160"/>
            <a:ext cx="295128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6324" descr=""/>
          <p:cNvPicPr/>
          <p:nvPr/>
        </p:nvPicPr>
        <p:blipFill>
          <a:blip r:embed="rId1"/>
          <a:stretch/>
        </p:blipFill>
        <p:spPr>
          <a:xfrm>
            <a:off x="247680" y="917640"/>
            <a:ext cx="86486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5300" descr=""/>
          <p:cNvPicPr/>
          <p:nvPr/>
        </p:nvPicPr>
        <p:blipFill>
          <a:blip r:embed="rId1"/>
          <a:stretch/>
        </p:blipFill>
        <p:spPr>
          <a:xfrm>
            <a:off x="423720" y="1714680"/>
            <a:ext cx="8296560" cy="34290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332000" y="2297160"/>
            <a:ext cx="576000" cy="4366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2484360" y="3487680"/>
            <a:ext cx="57636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4276" descr=""/>
          <p:cNvPicPr/>
          <p:nvPr/>
        </p:nvPicPr>
        <p:blipFill>
          <a:blip r:embed="rId1"/>
          <a:stretch/>
        </p:blipFill>
        <p:spPr>
          <a:xfrm>
            <a:off x="419040" y="1676520"/>
            <a:ext cx="8305920" cy="3504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2124000" y="3454560"/>
            <a:ext cx="1152720" cy="436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5076720" y="4076640"/>
            <a:ext cx="86364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2231" descr=""/>
          <p:cNvPicPr/>
          <p:nvPr/>
        </p:nvPicPr>
        <p:blipFill>
          <a:blip r:embed="rId1"/>
          <a:stretch/>
        </p:blipFill>
        <p:spPr>
          <a:xfrm>
            <a:off x="371520" y="843120"/>
            <a:ext cx="8400960" cy="5171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7629480" y="2035080"/>
            <a:ext cx="576360" cy="4366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8193240" y="2039760"/>
            <a:ext cx="576000" cy="4366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1042920" y="2637000"/>
            <a:ext cx="511344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3:3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